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006-C00C-4324-983C-24952393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5CF-8915-422D-A39C-B6677829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BBF-539D-491C-BA0A-2AB42DA1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BE8-6EF0-42EB-AF62-D9995778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ED30-7019-4DB6-B8C2-D2982B18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53E9-0E33-41A8-BA0A-5D04BE6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DA41-5552-4C5C-B25A-220E0FDA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79FC-88DF-4492-8F4A-3AFA1927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248-1C89-4E96-BE34-0AEE6E62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D7CD-4B50-44C9-8F19-12824DD4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0229-B1F2-4EB9-8A63-D95A96B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ABC-BD8C-43C9-904E-372F322A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1444-D02F-41DD-AAC4-E80E919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EE7C-2E48-40F9-AB67-6F456C0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A01E-B903-4E13-990C-334F5F4E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433-704B-4549-8683-C572C249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5293-7D0E-46A9-AB3D-28321BBD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702-B04F-4477-B0EA-90E4102A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E67-763D-496C-BBFD-10952DF2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017-E8EA-480A-80C9-C655A278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561-FF2D-4575-AB82-7C599C91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D98-A156-4E6A-9425-76B8BC5D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A51-7D2E-473D-A180-6528D2FB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0A3-7639-49D2-8B84-D38C5D02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DC34-4396-47B9-814E-8FAEC847591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4653000"/>
            <a:ext cx="7578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2C68-E6E6-4A76-8088-C0E45994DEE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1515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1515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1515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419720"/>
            <a:ext cx="86821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pass the United States Citizenship t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553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art of the qualification process for U. S. Citizenship is a 100 question test.  Here are 10 questions from the new (10-08) citizenship exam.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6 out of 10 correct is considered passing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9.  What did Susan B. Anthony do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10.  Who was the president during WW 1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eck Your Answers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151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The President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(currently George W. Bush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24480" y="289548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40500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2.  Thomas     Jeffers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3.  Mississippi River or the Missouri River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48320" y="1706400"/>
            <a:ext cx="4244760" cy="4962600"/>
            <a:chOff x="4648320" y="1706400"/>
            <a:chExt cx="4244760" cy="496260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648320" y="1706400"/>
              <a:ext cx="4244760" cy="49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4648320" y="1706400"/>
              <a:ext cx="4244760" cy="496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1515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4.  Nine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733920" y="2055960"/>
            <a:ext cx="51814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5.  Nancy Pelosi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6.  The Civil War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7.  For the 13 original colonies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8.  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Puerto Rico, U.S. Virgin Islands, American Samoan, North Mariana Islands, Guam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1.  Who is in charge of the executive branch of government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9.  Fought for Women’s rights and Civil Rights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48320" y="1706400"/>
            <a:ext cx="4244760" cy="4962600"/>
            <a:chOff x="4648320" y="1706400"/>
            <a:chExt cx="4244760" cy="49626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648320" y="1706400"/>
              <a:ext cx="4244760" cy="49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648320" y="1706400"/>
              <a:ext cx="4244760" cy="496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1515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10.  Woodrow Wilson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Verdana"/>
              </a:rPr>
              <a:t>How did you do?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Verdana"/>
              </a:rPr>
              <a:t>Could you pass the U.S. Citizenship test?  </a:t>
            </a:r>
            <a:r>
              <a:rPr b="0" lang="en-US" sz="60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2.  Who wrote the Declaration of Independence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3.  Name one of the two longest rivers in the United States.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4.  How many justices are on the Supreme Court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5.  What is the name of the Speaker of the House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6.  Name the U.S. war between the North and the South.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7.  Why does the flag have 13 stripes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8.  Name one U. S. territory.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8:02:44Z</dcterms:created>
  <dc:creator>Lee-Anne T. Spalding</dc:creator>
  <dc:description/>
  <cp:keywords/>
  <dc:language>en-US</dc:language>
  <cp:lastModifiedBy>Lee-Anne T. Spalding</cp:lastModifiedBy>
  <dcterms:modified xsi:type="dcterms:W3CDTF">2008-05-24T19:03:59Z</dcterms:modified>
  <cp:revision>6</cp:revision>
  <dc:subject/>
  <dc:title>Can you pass the United States Citizenship test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01033</vt:lpwstr>
  </property>
</Properties>
</file>